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74C-DFC0-4C38-BB83-D81D5811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35A-7BF6-47FB-9B70-4130364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E95-ED07-40ED-8136-FEDD35C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F15-B16F-49BC-8AB2-038EDB41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474-8241-4A3C-A480-E9DDC73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52A-3056-4359-9E22-DB8DBCE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1FF-AA9F-458D-ADDA-DD2CD77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564-BAE3-4B57-9CF3-595DE7C8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7F9-A1CF-45A9-82FF-95BCCFD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E87-84F3-45ED-A2E3-9005679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BA6-20FC-4693-81AD-6F38905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510-6F13-457F-8EB9-DD61A50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2A1-52AC-458C-863B-AA4A7BAA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0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ky-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ce%20snow%20sky%20800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louds_wilshi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umul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kyclouds" descr=""/>
          <p:cNvPicPr/>
          <p:nvPr/>
        </p:nvPicPr>
        <p:blipFill>
          <a:blip r:embed="rId1"/>
          <a:stretch/>
        </p:blipFill>
        <p:spPr>
          <a:xfrm>
            <a:off x="343080" y="890640"/>
            <a:ext cx="8458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2CloudScape" descr=""/>
          <p:cNvPicPr/>
          <p:nvPr/>
        </p:nvPicPr>
        <p:blipFill>
          <a:blip r:embed="rId1"/>
          <a:stretch/>
        </p:blipFill>
        <p:spPr>
          <a:xfrm>
            <a:off x="648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seate%20Spoonbill%20Flying%20Against%20Azul%20S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as-s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ky%20l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rmy%20s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tormyS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l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A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22:00:13Z</dcterms:created>
  <dc:creator>Carol Shockley</dc:creator>
  <dc:description/>
  <dc:language>en-US</dc:language>
  <cp:lastModifiedBy>Carol Shockley</cp:lastModifiedBy>
  <dcterms:modified xsi:type="dcterms:W3CDTF">2005-01-13T22:00:23Z</dcterms:modified>
  <cp:revision>1</cp:revision>
  <dc:subject/>
  <dc:title>PowerPoint Presentation</dc:title>
</cp:coreProperties>
</file>